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7DB-32B7-4944-B798-1C9157CE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475-10A1-437B-A01B-5D6F218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E60-FCD1-484F-9C32-8EDB18B6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B15-029C-4BA9-BBF6-1E0103E5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086-2E8A-421F-87D7-311E7FD3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FCD7-631F-49DA-A4E5-0613F65E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D404-FDDC-4832-9BAC-184BE6AD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3F9-41D3-4B29-AC9D-A4DDD3D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6F0F-9940-4B08-8103-A3032A39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0403-7862-4C06-AA8B-A28A2A92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3797-43CC-49CF-AF66-F5706B35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268-2672-4C77-9B8E-723488F6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F7A2-F9EA-4535-91FF-AA9F7B32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3A52-CD01-406F-8E73-46AD18E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EFCB-9D93-4587-8886-4D8958F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767F-A17A-45FD-A717-4D77F9F7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FA26-34B6-4C0E-B6E9-F661EA2A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EA4-416E-4679-BF7B-9C6CCC56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C43-5E5F-463E-A1D3-08CE19F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BCE-1C9D-4CA7-89AA-59328283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C99-E035-45A7-979A-CBAA2EF0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24C-970B-43E4-BF3C-B5941877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9DB-2607-4C61-B538-B71BF7AF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B09-1065-48A2-8D66-4DD3570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59F7-3E21-41C5-9519-EE4A74B4A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0544-004F-4158-9975-5F72D1E62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7846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ec94"/>
                </a:solidFill>
                <a:latin typeface="comic"/>
              </a:rPr>
              <a:t>Arte </a:t>
            </a:r>
            <a:br>
              <a:rPr sz="9600"/>
            </a:br>
            <a:r>
              <a:rPr b="0" lang="en-US" sz="9600" spc="-1" strike="noStrike">
                <a:solidFill>
                  <a:srgbClr val="feec94"/>
                </a:solidFill>
                <a:latin typeface="comic"/>
              </a:rPr>
              <a:t>Del </a:t>
            </a:r>
            <a:br>
              <a:rPr sz="9600"/>
            </a:br>
            <a:r>
              <a:rPr b="0" lang="en-US" sz="9600" spc="-1" strike="noStrike">
                <a:solidFill>
                  <a:srgbClr val="feec94"/>
                </a:solidFill>
                <a:latin typeface="comic"/>
              </a:rPr>
              <a:t>Realismo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 Bañ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Ánge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 Espigad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v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Cortadores De M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ouquet De Margarit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s Espigador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897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gel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El Rezo del Angelus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os Bañ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2669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ver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 Cortadores De Mad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7162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eec94"/>
                </a:solidFill>
                <a:latin typeface="comic"/>
              </a:rPr>
              <a:t>Millet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Bouquet De Margarit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2387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eec94"/>
                </a:solidFill>
                <a:latin typeface="Times New Roman"/>
              </a:rPr>
              <a:t>Corot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1:53:11Z</dcterms:created>
  <dc:creator>Pc 8 </dc:creator>
  <dc:description/>
  <dc:language>en-US</dc:language>
  <cp:lastModifiedBy>Pc 8 </cp:lastModifiedBy>
  <dcterms:modified xsi:type="dcterms:W3CDTF">2008-12-18T12:30:53Z</dcterms:modified>
  <cp:revision>2</cp:revision>
  <dc:subject/>
  <dc:title>Arte  Del  Realismo</dc:title>
</cp:coreProperties>
</file>